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8938E-145B-4307-AAEB-5255DE7671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7C8A2-7A13-45E8-8CCB-6ECF6B7F0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89E67-90D7-4363-9F07-6A63312F7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3516E-4068-47D9-BB43-74D228AC2FE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90B65-C147-490A-A41D-17B9DA9F0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D0FB-DECD-4BA6-A620-C54D762133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93E8-6B5A-4F6F-B593-4A16F2DCF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12B2-C56F-4BCA-BBFF-E6CBC894C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48DB-A3C3-4AB5-8A5D-7529DAEE9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A2B1-C0A1-4D00-A63D-A182403CF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20662-7588-4F07-81E4-2FDDF4660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AA2A-C8CE-4DB6-8A7F-7FAF649E2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0B77-5E78-4B64-87ED-22E15EC30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90F8-7BD0-407D-90A5-E79DFA409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704F-E631-46B8-AEBC-01A8C5E01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525D-75ED-40EC-B538-5BF5CD713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25EC-7C19-4195-88DA-E36DDA1C4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01D4-5250-42FF-9370-6DB2D47F5F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E4D18-C6F0-4440-8D64-A81EF62CA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6E614-E4BE-4EC7-8A97-74CD29F25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DA33A-262E-4B27-8314-F10274A29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F155B-1369-40AB-B102-B600B57A8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82B86-4C3A-41D6-B9A0-D64A4876B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04A38-AC11-4405-B022-F5C1A26F9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AC275-32B3-4BB2-9F7C-D87AA701C87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D6A00-0FEE-41CE-9ADE-BCE6DC7C50F2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抗结核病药和抗真菌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47636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3399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440" y="17521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抗  菌  谱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广谱   分枝杆菌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+</a:t>
            </a:r>
            <a:r>
              <a:rPr b="1" lang="zh-CN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病毒、衣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体，为抑菌和杀菌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作用机制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抑制依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聚酶，阻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RN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合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耐 药 性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单用易产生耐药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755640" y="112536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二、利福平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(rifampicin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楷体_GB2312"/>
              </a:rPr>
              <a:t>体内过程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幼圆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幼圆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幼圆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服吸收快、完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乙酰化代谢，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协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药酶诱导剂，能加速避孕药等代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从胆汁排泄，分泌物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尿、粪、泪液、痰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呈橘红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4360" y="112500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1000"/>
          </a:bodyPr>
          <a:p>
            <a:pPr marL="2433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临床应用：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433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治疗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各种类型结核病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433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联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433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麻风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433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耐药金葡菌等敏感菌引起感染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433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468360" y="364500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不良反应：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胃肠刺激反应，较常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损害，少数人出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餐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顿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对氨基水杨酸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AS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合用时，两药应间隔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巴比妥类及利眠宁可减少本品在肠道的吸收，必须合用时应间隔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给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察肝脏损害的表现及劝告病人禁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先告诉病人服用利福平可使大、小便、汗液、泪液、唾液和痰液变成橘红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利福平在潮湿环境下容易失效，故应放于干燥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2509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抗菌机制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对繁殖期结核杆菌有较强抑制作用。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耐  药  性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易产生耐药性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与异烟肼、利福平合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不良反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较少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球后视神经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定期做眼科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2090880" y="1025640"/>
            <a:ext cx="31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三、乙胺丁醇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(ethambutal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979560" y="1733400"/>
            <a:ext cx="7091280" cy="44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特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现最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穿透力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易产生耐药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耳毒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强调联合用药，尤其结核病急性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2291040" y="1170000"/>
            <a:ext cx="346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四、链霉素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(streptomycin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142640" y="1752480"/>
            <a:ext cx="716292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特点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较强抑菌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单用易产生耐药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期大量应用有肝毒性，联合用药参与短程疗法，不良反应明显减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1834200" y="1170000"/>
            <a:ext cx="450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五、吡嗪酰胺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(pyrazinamide, PZA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抗结核病药应用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用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病灶内的结核杆菌生长旺盛，对药物敏感，且病灶局部血液循环丰富，药物易渗入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联合用药和长期用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提高疗效、降低毒性、延缓耐药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规律和足量用药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d1496"/>
                </a:solidFill>
                <a:latin typeface="宋体"/>
                <a:ea typeface="宋体"/>
              </a:rPr>
              <a:t>第二节 抗真菌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609120" y="2285640"/>
            <a:ext cx="2057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各种癣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新型隐球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白色念珠菌</a:t>
            </a:r>
            <a:r>
              <a:rPr b="0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2133720" y="114300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Times New Roman"/>
                <a:ea typeface="楷体_GB2312"/>
              </a:rPr>
              <a:t>真菌所致疾病与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6553080" y="2362320"/>
            <a:ext cx="18288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灰黄霉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制霉菌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特比萘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咪 康 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两性霉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咪 唑 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三 唑 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429000" y="2362320"/>
            <a:ext cx="2286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浅部真菌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头  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体  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指甲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深部真菌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脑膜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肺  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心内膜炎 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2743200" y="2590920"/>
            <a:ext cx="609480" cy="75960"/>
          </a:xfrm>
          <a:prstGeom prst="rightArrow">
            <a:avLst>
              <a:gd name="adj1" fmla="val 50000"/>
              <a:gd name="adj2" fmla="val 200592"/>
            </a:avLst>
          </a:prstGeom>
          <a:solidFill>
            <a:srgbClr val="8ac8de"/>
          </a:solidFill>
          <a:ln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AutoShape 7"/>
          <p:cNvSpPr/>
          <p:nvPr/>
        </p:nvSpPr>
        <p:spPr>
          <a:xfrm>
            <a:off x="5715000" y="2590920"/>
            <a:ext cx="609480" cy="75960"/>
          </a:xfrm>
          <a:prstGeom prst="rightArrow">
            <a:avLst>
              <a:gd name="adj1" fmla="val 50000"/>
              <a:gd name="adj2" fmla="val 200592"/>
            </a:avLst>
          </a:prstGeom>
          <a:solidFill>
            <a:srgbClr val="8ac8de"/>
          </a:solidFill>
          <a:ln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AutoShape 8"/>
          <p:cNvSpPr/>
          <p:nvPr/>
        </p:nvSpPr>
        <p:spPr>
          <a:xfrm>
            <a:off x="2666880" y="4648320"/>
            <a:ext cx="609840" cy="75960"/>
          </a:xfrm>
          <a:prstGeom prst="rightArrow">
            <a:avLst>
              <a:gd name="adj1" fmla="val 50000"/>
              <a:gd name="adj2" fmla="val 200711"/>
            </a:avLst>
          </a:prstGeom>
          <a:solidFill>
            <a:srgbClr val="8ac8de"/>
          </a:solidFill>
          <a:ln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AutoShape 9"/>
          <p:cNvSpPr/>
          <p:nvPr/>
        </p:nvSpPr>
        <p:spPr>
          <a:xfrm>
            <a:off x="5715000" y="4648320"/>
            <a:ext cx="609480" cy="75960"/>
          </a:xfrm>
          <a:prstGeom prst="rightArrow">
            <a:avLst>
              <a:gd name="adj1" fmla="val 50000"/>
              <a:gd name="adj2" fmla="val 200592"/>
            </a:avLst>
          </a:prstGeom>
          <a:solidFill>
            <a:srgbClr val="8ac8de"/>
          </a:solidFill>
          <a:ln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学习重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异烟肼、利福平的作用机制、应用及不良反应；抗结核药应用原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两性霉素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B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、氟康唑、氟胞嘧啶等抗真菌药的作用特点及其临床应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熟悉：乙胺丁醇、链霉素的抗结核特点；抗真菌药分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了解：抗结核病二线药的作用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灰黄霉素</a:t>
            </a:r>
            <a:r>
              <a:rPr b="1" lang="en-US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(griseofulvin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作用机制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渗入皮肤角质层与角蛋白结合，干扰真菌核酸 合成，抑制其生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给药途径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服有效，外用无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应用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治疗各种癣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不良反应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胃肠道反应和神经系统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609480" y="6858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治疗浅部真菌感染的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610920" y="2204640"/>
            <a:ext cx="8001000" cy="16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99"/>
                </a:solidFill>
                <a:latin typeface="Verdana"/>
                <a:ea typeface="幼圆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作用机制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烯类，抗菌谱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各类真菌均有抑制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阴道滴虫有抑制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539640" y="36450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临床用途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服用于胃肠真菌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局部用于皮肤、口腔、阴道真菌病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阴道霉菌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3093480" y="1197000"/>
            <a:ext cx="32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制霉菌素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(nystatin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克霉唑（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clotrimazole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唑类抗真菌药，具有广谱抗真菌活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局部外用治疗皮肤癣菌引起的体癣、手足癣和耳道真菌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口含片用于治疗鹅口疮，栓剂用于治疗阴道念珠菌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抗深部真菌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10480" cy="54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两性霉素</a:t>
            </a:r>
            <a:r>
              <a:rPr b="1" lang="en-US" sz="3600" spc="-1" strike="noStrike">
                <a:solidFill>
                  <a:srgbClr val="1d1496"/>
                </a:solidFill>
                <a:latin typeface="宋体"/>
                <a:ea typeface="宋体"/>
              </a:rPr>
              <a:t>B (amphotericin B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深部真菌有强大抑制作用，高浓度杀菌。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择性与真菌细胞膜类固醇结合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增加膜的通透性，导致细胞内重要物质外漏而发挥抗菌作用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首选治疗深部真菌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损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常见而严重，表现为蛋白尿、管型尿和尿素氮升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低钾血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损害、过敏反应和贫血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较少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刺激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射部位易发生血栓性静脉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律失常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滴注过快可导致心律失常或心脏停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静滴过程或以后数小时可发生寒战、高热、恶心、呕吐、厌食、头痛、肌肉痛和关节痛，有时伴有血压降低、眩晕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减少两性霉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引起的高热、头痛和过敏反应发生，因此静滴前半小时常需给病人服用解热镇痛药和抗组胺药，滴注液中加生理量的氢化可的松或地塞米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减少血栓性静脉炎的发生，静脉滴注液应适当稀释，并经常更换注射部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性霉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光、热不稳定，应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避光密闭保存。稀释时不能用生理盐水，否则会发生沉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定期做血、尿常规，肝肾功能、血钾和心电图检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氟胞嘧啶（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flucytosine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服抗真菌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菌机制是干扰真菌核酸和蛋白质合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于治疗敏感菌株所致的深部真菌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疗效不如两性霉素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易产生耐药性，故主张与两性霉素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合用以增强疗效，减少耐药性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良反应较少，多见胃肠道反应及皮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广谱抗真菌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酮康唑 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(ketoconazole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唑类口服广谱抗真菌药 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良反应常见胃肠道反应，少数患者出现肝损害，影响雄激素、皮质激素等代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咪康唑 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(miconazole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口服吸收少，必须静脉注射，毒性较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局部用药疗效优于克霉唑或制霉菌素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广谱抗真菌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氟康唑 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(fluconazole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唑类广谱抗真菌药，可口服，也可静脉滴注给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适用于各种真菌引起的脑膜炎和皮质下真菌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良反应较少，耐受性较其他抗真菌药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广谱抗真菌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伊曲康唑（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itraconazole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属唑类口服广谱抗真菌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于许多真菌的浅部感染，尤其是甲真菌病，治愈率高而复发率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良反应较轻，一般能较好地耐受，主要为胃肠道反应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d1496"/>
                </a:solidFill>
                <a:latin typeface="宋体"/>
                <a:ea typeface="宋体"/>
              </a:rPr>
              <a:t>第一节   抗结核病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4" descr="4db8174djw1ebc93he3yqj20sf0izwmn"/>
          <p:cNvPicPr/>
          <p:nvPr/>
        </p:nvPicPr>
        <p:blipFill>
          <a:blip r:embed="rId1"/>
          <a:stretch/>
        </p:blipFill>
        <p:spPr>
          <a:xfrm>
            <a:off x="1042920" y="1173240"/>
            <a:ext cx="6985080" cy="413856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5"/>
          <p:cNvSpPr/>
          <p:nvPr/>
        </p:nvSpPr>
        <p:spPr>
          <a:xfrm>
            <a:off x="3635280" y="5516640"/>
            <a:ext cx="187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Imprint MT Shadow"/>
                <a:ea typeface="宋体"/>
              </a:rPr>
              <a:t>The end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84360" y="386064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二线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氨水杨酸  乙硫异烟胺  卷曲霉素 环丝氨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684360" y="1773360"/>
            <a:ext cx="8001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一线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异烟肼    利福平    链霉素    吡嗪酰胺    乙胺丁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1114560" y="1177920"/>
            <a:ext cx="1891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抗结核病药包括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09120" y="2514600"/>
            <a:ext cx="80010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抗菌机制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抑制分枝菌酸合成，减弱结核杆菌的耐酸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杀菌和抑菌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易产生耐药性，强调联合用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685800" y="1371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一、异烟肼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(isoniazid, INH, 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雷米封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609120" y="11430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作用特点</a:t>
            </a: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效、价廉，口服吸收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是抗结核病的首选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子量小，穿透力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④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部分经乙酰化代谢，存在快、慢乙酰化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谢型，影响药物疗效和毒性的发生率和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各种类型的结核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单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、轻症结核病或预防给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联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他类型的结核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5802480" y="407520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68360" y="148392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不良反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、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期应用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①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外周神经炎和中枢神经系统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致维生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6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→ GABA↓ → CNS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兴奋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慢乙酰化多见，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it 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6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量预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②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损害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乙酰化产物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单乙酰异烟肼（肝毒物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快乙酰化多见，定期复查肝功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观察肝功能不良症状，每月检查一次肝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药期间应劝告患者禁酒，以减少肝损害的危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观察神经系统反应，如手足麻木、刺痛、烧灼感及中枢神经系统损害的症状，发现异常应及时报告医生。长期服用异烟肼时，应坚持服用维生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6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本药可干扰正常糖代谢，糖尿病患者需应用此药时，护理人员应注意观察糖尿病的病情变化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般应空腹服药以利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酸药能抑制该药吸收，如需服用抗酸药时应告诉病人不要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9T08:45:20Z</dcterms:modified>
  <cp:revision>2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